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5.wmf" ContentType="image/x-wmf"/>
  <Override PartName="/ppt/media/image28.wmf" ContentType="image/x-wmf"/>
  <Override PartName="/ppt/media/image1.jpeg" ContentType="image/jpeg"/>
  <Override PartName="/ppt/media/image15.wmf" ContentType="image/x-wmf"/>
  <Override PartName="/ppt/media/image27.wmf" ContentType="image/x-wmf"/>
  <Override PartName="/ppt/media/image26.wmf" ContentType="image/x-wmf"/>
  <Override PartName="/ppt/media/image14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E3309-E7BC-4BC5-B41D-6F6A88678A4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3DDAA-000F-4ACA-9394-46F8DD06445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E421E-135D-4CB9-84E6-706424630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F2695-F094-4FC8-B6A1-E00E5AD6624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9DA6D-3869-4C92-A751-7ECD7135252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663C9-C6AA-4EF8-830C-B618486120E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46A37-8908-4608-A00D-5813B27C250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18B8F-9C80-448C-B5E9-3DBD69149C2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8261C-74CA-4D06-96A5-3E1DDAB6143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05F33-5177-4C43-948F-6E91A50669A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A08BF-73A2-4CF6-9097-CFC7FB18161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508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332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3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508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332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17C55-4977-44F9-B142-6C932D96A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55280" y="3284280"/>
            <a:ext cx="793116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3280" indent="-23328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492360" y="83664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>
            <a:lum contrast="-6000"/>
          </a:blip>
          <a:stretch/>
        </p:blipFill>
        <p:spPr>
          <a:xfrm>
            <a:off x="0" y="0"/>
            <a:ext cx="69228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3492360" y="836640"/>
            <a:ext cx="2224080" cy="22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0" y="609300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"/>
          </p:nvPr>
        </p:nvSpPr>
        <p:spPr>
          <a:xfrm>
            <a:off x="0" y="6381360"/>
            <a:ext cx="37800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2"/>
          </p:nvPr>
        </p:nvSpPr>
        <p:spPr>
          <a:xfrm>
            <a:off x="3995640" y="6381360"/>
            <a:ext cx="71928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44D2-056F-41F9-AA6F-E70E9953ED59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8217000" y="5927760"/>
            <a:ext cx="927000" cy="930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1628640"/>
            <a:ext cx="9144000" cy="32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 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June 18, 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200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A5BF4-58F3-411D-9B1C-B1C908E2C02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Economic Outl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39280" y="1341000"/>
            <a:ext cx="8147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171880" indent="-343080"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declines since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inflation stabilized around 10 per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Public finance discipline achie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growth is critically dependent on capital inflow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n ongoing savings defic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re’s a fast increase in foreign debt st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Rate of unemployment which was around 10% increased with the cri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8A26E-EFE8-4CE3-B297-C4978938A0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50920" y="2133720"/>
            <a:ext cx="864216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Ban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E92E4-F8C1-4011-B43A-D3BDBE33B0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umber of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468360" y="1197000"/>
          <a:ext cx="821844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197000"/>
                    <a:ext cx="82184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DF045-7364-4DB9-94A6-92982F7BDB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Number of Branches and Personnel</a:t>
            </a:r>
            <a:r>
              <a:rPr b="1" lang="en-NZ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468360" y="1628640"/>
          <a:ext cx="4036680" cy="4524840"/>
        </p:xfrm>
        <a:graphic>
          <a:graphicData uri="http://schemas.openxmlformats.org/drawingml/2006/table">
            <a:tbl>
              <a:tblPr/>
              <a:tblGrid>
                <a:gridCol w="4036680"/>
              </a:tblGrid>
              <a:tr h="45248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68360" y="1341360"/>
          <a:ext cx="8218440" cy="4535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21844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DB99B-0FAE-454E-84EF-6E49A967895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USD billion)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nd</a:t>
            </a:r>
            <a:r>
              <a:rPr b="1" lang="en-NZ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otal Assets/GDP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250920" y="1413000"/>
          <a:ext cx="8435880" cy="4464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13000"/>
                    <a:ext cx="843588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DE045-7366-4CA7-8636-09BD2D3721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4739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TL/FX Composition of Assets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468360" y="1052640"/>
          <a:ext cx="8280360" cy="475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280360" cy="47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94AA4-510F-488A-BE6F-5178F728E4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Loans under follow-up/ </a:t>
            </a:r>
            <a:br>
              <a:rPr sz="3200"/>
            </a:b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otal Loans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24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468360" y="1341360"/>
          <a:ext cx="8136000" cy="4551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41360"/>
                    <a:ext cx="8136000" cy="45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E345D-1C26-4514-9CCF-CC0FE357E88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Loans/Deposit Ratio</a:t>
            </a:r>
            <a:r>
              <a:rPr b="0" lang="tr-T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tr-TR" sz="3200" spc="-1" strike="noStrike">
                <a:solidFill>
                  <a:srgbClr val="333399"/>
                </a:solidFill>
                <a:latin typeface="Arial"/>
              </a:rPr>
              <a:t>(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052640"/>
          <a:ext cx="8229600" cy="50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50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90A84-133A-4C58-98E6-935B3E06A7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pital Ad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qu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y and Shareholders’ equ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395280" y="1197000"/>
          <a:ext cx="8280360" cy="482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97000"/>
                    <a:ext cx="8280360" cy="48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B5413-61DA-46FD-8B7A-FB65AE18EBA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eneral Outlook of Banking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50560" y="980640"/>
            <a:ext cx="8785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number of brances and personn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Fast increase in total assets and lo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Money substitution is around 30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Loans under follow up is at a low level (3%) and 90% of them are provisio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The ratio of loans/deposits incre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0000"/>
                </a:solidFill>
                <a:latin typeface="Arial"/>
              </a:rPr>
              <a:t>CAR of the sector is around 17 perc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80A34-44A4-4708-A86B-E0C1F07FC15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1916280"/>
            <a:ext cx="76183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Part I</a:t>
            </a:r>
            <a:br>
              <a:rPr sz="3600"/>
            </a:b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Turkish Econom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4B9FA-4289-4A23-B925-E8920C9745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095480" y="2205000"/>
            <a:ext cx="6953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art 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Global Crisi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Turkish Banking Sector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BBDAD-8B45-4E2F-8797-89553BBC05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469800" y="1628640"/>
          <a:ext cx="822636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628640"/>
                    <a:ext cx="8226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2D0AC-233C-4FF8-AC61-6606F575FB3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velopment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USD terms, October 2008=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484280"/>
          <a:ext cx="8229600" cy="432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84280"/>
                    <a:ext cx="82296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83E8B-E0D8-47F7-9B10-FE911C2601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Liabilitie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250920" y="1341360"/>
          <a:ext cx="864216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341360"/>
                    <a:ext cx="864216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ABCBF-8418-446F-B5E9-93642E051B8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Composition of Assets </a:t>
            </a:r>
            <a:br>
              <a:rPr sz="2800"/>
            </a:b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(In TL ter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324000" y="1268280"/>
          <a:ext cx="824364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268280"/>
                    <a:ext cx="824364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6525E-AC3F-4A93-B3B0-1AF32035F48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Deposi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50920" y="1125360"/>
          <a:ext cx="843588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43588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EF2A0-20F4-4899-8FE3-1CBDDFA5B20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iquid Asset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7200" y="1268280"/>
          <a:ext cx="8229600" cy="455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5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F1547-351C-4806-9B90-0F081F2B6CD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Securities (TL/USD Mill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250920" y="1125360"/>
          <a:ext cx="8642160" cy="4697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642160" cy="469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83237-FBC9-45D9-9E2C-7E3A65A4C78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457200" y="1125360"/>
          <a:ext cx="8229600" cy="460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25360"/>
                    <a:ext cx="8229600" cy="46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FECA2-D266-4930-8A65-19F865DAD3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Loans under follow-up (TL/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457200" y="1052640"/>
          <a:ext cx="8229600" cy="477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52640"/>
                    <a:ext cx="8229600" cy="47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A8E25-2388-4BC5-A478-4718F374772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GDP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 in real terms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95280" y="1413000"/>
          <a:ext cx="829152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13000"/>
                    <a:ext cx="829152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EA510-924B-461F-BF0A-3402BAFC9F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FX Position (USD mill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457200" y="1268280"/>
          <a:ext cx="8229600" cy="468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68280"/>
                    <a:ext cx="8229600" cy="468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2B6EF-2B8A-46AC-86B5-DC57C3A9E91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Effects of the Cri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250560" y="69228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iabilities decreased slightly in real te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omposition of total assets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otal loans decreased slightly, while securities incre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Loans under follow-up increased sharp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FX risk, liquidity risk and interest risk are ignorably 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Capital adequacy ratio remained at high lev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>
                <a:solidFill>
                  <a:srgbClr val="000000"/>
                </a:solidFill>
                <a:latin typeface="Arial"/>
              </a:rPr>
              <a:t>The quality of loan stock deteriorates due to decreasing economic acti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7A94F-0657-47F4-B88A-8222D779433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Inflation 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tr-TR" sz="3600" spc="-1" strike="noStrike">
                <a:solidFill>
                  <a:srgbClr val="333399"/>
                </a:solidFill>
                <a:latin typeface="Arial"/>
              </a:rPr>
              <a:t>% change</a:t>
            </a:r>
            <a:r>
              <a:rPr b="1" lang="en-NZ" sz="36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0920" y="1197000"/>
          <a:ext cx="8713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02595-DD49-4726-A634-11CBCA5A96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PSBR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1990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-200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24000" y="1197000"/>
          <a:ext cx="836280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97000"/>
                    <a:ext cx="836280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8559C-258A-44A5-AAE1-811AD1ACED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Net Savings/GDP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95280" y="1125360"/>
          <a:ext cx="8291520" cy="4680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8291520" cy="46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BCC73-61D2-4A0F-A429-8EE7B071D2F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Growth and Capital Flows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68360" y="907920"/>
          <a:ext cx="8218440" cy="482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907920"/>
                    <a:ext cx="821844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8DFEF-2697-46B9-86C6-641ACF4EED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External Debt Stock (USD billion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0920" y="981000"/>
          <a:ext cx="8435880" cy="4969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81000"/>
                    <a:ext cx="8435880" cy="49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8B174-A939-4039-A100-55FE5511A0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Unemployment Rate (</a:t>
            </a:r>
            <a:r>
              <a:rPr b="1" lang="tr-TR" sz="2800" spc="-1" strike="noStrike">
                <a:solidFill>
                  <a:srgbClr val="333399"/>
                </a:solidFill>
                <a:latin typeface="Arial"/>
              </a:rPr>
              <a:t>%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NZ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95280" y="981000"/>
          <a:ext cx="8291520" cy="489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829152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urkish economy and banking sector, June 18, 200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6C564-E231-4DCC-B766-9B50A71DF0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3T07:33:45Z</dcterms:created>
  <dc:creator> </dc:creator>
  <dc:description/>
  <dc:language>en-US</dc:language>
  <cp:lastModifiedBy>mumcum</cp:lastModifiedBy>
  <dcterms:modified xsi:type="dcterms:W3CDTF">2009-06-16T09:56:14Z</dcterms:modified>
  <cp:revision>125</cp:revision>
  <dc:subject/>
  <dc:title>Slide 1</dc:title>
</cp:coreProperties>
</file>